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B3B-5B69-4A34-A914-EC9A691BC95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0112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80040" y="140292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2220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0112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80040" y="4136400"/>
            <a:ext cx="27414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60360" y="491760"/>
            <a:ext cx="847584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5040" y="413640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040" y="1402920"/>
            <a:ext cx="415476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22200" y="4136400"/>
            <a:ext cx="85140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360"/>
            <a:ext cx="227160" cy="62704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596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08520" y="6565680"/>
            <a:ext cx="150660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006e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006e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4680"/>
            <a:ext cx="7188480" cy="260280"/>
          </a:xfrm>
          <a:prstGeom prst="rect">
            <a:avLst/>
          </a:pr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440" y="6480"/>
            <a:ext cx="549000" cy="601560"/>
          </a:xfrm>
          <a:custGeom>
            <a:avLst/>
            <a:gdLst/>
            <a:ahLst/>
            <a:rect l="l" t="t" r="r" b="b"/>
            <a:pathLst>
              <a:path w="1766" h="1820">
                <a:moveTo>
                  <a:pt x="5" y="1820"/>
                </a:moveTo>
                <a:cubicBezTo>
                  <a:pt x="4" y="1412"/>
                  <a:pt x="0" y="1167"/>
                  <a:pt x="0" y="0"/>
                </a:cubicBezTo>
                <a:cubicBezTo>
                  <a:pt x="724" y="0"/>
                  <a:pt x="749" y="0"/>
                  <a:pt x="1766" y="0"/>
                </a:cubicBezTo>
                <a:cubicBezTo>
                  <a:pt x="1766" y="596"/>
                  <a:pt x="1766" y="476"/>
                  <a:pt x="1766" y="782"/>
                </a:cubicBezTo>
                <a:cubicBezTo>
                  <a:pt x="1421" y="773"/>
                  <a:pt x="1139" y="966"/>
                  <a:pt x="985" y="1154"/>
                </a:cubicBezTo>
                <a:cubicBezTo>
                  <a:pt x="838" y="1337"/>
                  <a:pt x="733" y="1562"/>
                  <a:pt x="735" y="1820"/>
                </a:cubicBezTo>
                <a:cubicBezTo>
                  <a:pt x="364" y="1817"/>
                  <a:pt x="157" y="1820"/>
                  <a:pt x="5" y="1820"/>
                </a:cubicBezTo>
                <a:close/>
              </a:path>
            </a:pathLst>
          </a:custGeom>
          <a:solidFill>
            <a:srgbClr val="006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962440" y="25560"/>
            <a:ext cx="47448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360" bIns="936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ffffff"/>
                </a:solidFill>
                <a:latin typeface="Arial Narrow"/>
              </a:rPr>
              <a:t>Kansanterveyslaitos </a:t>
            </a:r>
            <a:r>
              <a:rPr b="0" lang="fi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• </a:t>
            </a:r>
            <a:r>
              <a:rPr b="0" lang="sv-FI" sz="1500" spc="-1" strike="noStrike">
                <a:solidFill>
                  <a:srgbClr val="ffffff"/>
                </a:solidFill>
                <a:latin typeface="Arial Narrow"/>
                <a:ea typeface="Arial"/>
              </a:rPr>
              <a:t>Folkhälsoinstitut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862760" y="14400"/>
            <a:ext cx="701280" cy="239760"/>
            <a:chOff x="7862760" y="14400"/>
            <a:chExt cx="701280" cy="239760"/>
          </a:xfrm>
        </p:grpSpPr>
        <p:sp>
          <p:nvSpPr>
            <p:cNvPr id="8" name=""/>
            <p:cNvSpPr/>
            <p:nvPr/>
          </p:nvSpPr>
          <p:spPr>
            <a:xfrm>
              <a:off x="7862760" y="14400"/>
              <a:ext cx="172440" cy="239400"/>
            </a:xfrm>
            <a:custGeom>
              <a:avLst/>
              <a:gdLst/>
              <a:ahLst/>
              <a:rect l="l" t="t" r="r" b="b"/>
              <a:pathLst>
                <a:path w="1109" h="1447">
                  <a:moveTo>
                    <a:pt x="1109" y="162"/>
                  </a:moveTo>
                  <a:lnTo>
                    <a:pt x="1108" y="134"/>
                  </a:lnTo>
                  <a:lnTo>
                    <a:pt x="1102" y="107"/>
                  </a:lnTo>
                  <a:lnTo>
                    <a:pt x="1092" y="81"/>
                  </a:lnTo>
                  <a:lnTo>
                    <a:pt x="1077" y="58"/>
                  </a:lnTo>
                  <a:lnTo>
                    <a:pt x="1057" y="38"/>
                  </a:lnTo>
                  <a:lnTo>
                    <a:pt x="1036" y="22"/>
                  </a:lnTo>
                  <a:lnTo>
                    <a:pt x="1010" y="10"/>
                  </a:lnTo>
                  <a:lnTo>
                    <a:pt x="984" y="3"/>
                  </a:lnTo>
                  <a:lnTo>
                    <a:pt x="956" y="0"/>
                  </a:lnTo>
                  <a:lnTo>
                    <a:pt x="151" y="0"/>
                  </a:lnTo>
                  <a:lnTo>
                    <a:pt x="121" y="4"/>
                  </a:lnTo>
                  <a:lnTo>
                    <a:pt x="94" y="16"/>
                  </a:lnTo>
                  <a:lnTo>
                    <a:pt x="66" y="30"/>
                  </a:lnTo>
                  <a:lnTo>
                    <a:pt x="45" y="50"/>
                  </a:lnTo>
                  <a:lnTo>
                    <a:pt x="26" y="75"/>
                  </a:lnTo>
                  <a:lnTo>
                    <a:pt x="12" y="102"/>
                  </a:lnTo>
                  <a:lnTo>
                    <a:pt x="3" y="131"/>
                  </a:lnTo>
                  <a:lnTo>
                    <a:pt x="0" y="162"/>
                  </a:lnTo>
                  <a:lnTo>
                    <a:pt x="3" y="192"/>
                  </a:lnTo>
                  <a:lnTo>
                    <a:pt x="12" y="221"/>
                  </a:lnTo>
                  <a:lnTo>
                    <a:pt x="26" y="248"/>
                  </a:lnTo>
                  <a:lnTo>
                    <a:pt x="45" y="273"/>
                  </a:lnTo>
                  <a:lnTo>
                    <a:pt x="66" y="293"/>
                  </a:lnTo>
                  <a:lnTo>
                    <a:pt x="94" y="307"/>
                  </a:lnTo>
                  <a:lnTo>
                    <a:pt x="121" y="317"/>
                  </a:lnTo>
                  <a:lnTo>
                    <a:pt x="151" y="323"/>
                  </a:lnTo>
                  <a:lnTo>
                    <a:pt x="795" y="323"/>
                  </a:lnTo>
                  <a:lnTo>
                    <a:pt x="795" y="1290"/>
                  </a:lnTo>
                  <a:lnTo>
                    <a:pt x="798" y="1319"/>
                  </a:lnTo>
                  <a:lnTo>
                    <a:pt x="805" y="1346"/>
                  </a:lnTo>
                  <a:lnTo>
                    <a:pt x="818" y="1374"/>
                  </a:lnTo>
                  <a:lnTo>
                    <a:pt x="835" y="1397"/>
                  </a:lnTo>
                  <a:lnTo>
                    <a:pt x="857" y="1415"/>
                  </a:lnTo>
                  <a:lnTo>
                    <a:pt x="881" y="1431"/>
                  </a:lnTo>
                  <a:lnTo>
                    <a:pt x="909" y="1441"/>
                  </a:lnTo>
                  <a:lnTo>
                    <a:pt x="937" y="1447"/>
                  </a:lnTo>
                  <a:lnTo>
                    <a:pt x="966" y="1447"/>
                  </a:lnTo>
                  <a:lnTo>
                    <a:pt x="995" y="1441"/>
                  </a:lnTo>
                  <a:lnTo>
                    <a:pt x="1023" y="1431"/>
                  </a:lnTo>
                  <a:lnTo>
                    <a:pt x="1047" y="1415"/>
                  </a:lnTo>
                  <a:lnTo>
                    <a:pt x="1069" y="1397"/>
                  </a:lnTo>
                  <a:lnTo>
                    <a:pt x="1086" y="1374"/>
                  </a:lnTo>
                  <a:lnTo>
                    <a:pt x="1099" y="1346"/>
                  </a:lnTo>
                  <a:lnTo>
                    <a:pt x="1106" y="1319"/>
                  </a:lnTo>
                  <a:lnTo>
                    <a:pt x="1109" y="1290"/>
                  </a:lnTo>
                  <a:lnTo>
                    <a:pt x="1109" y="162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36280" y="14400"/>
              <a:ext cx="527760" cy="239760"/>
            </a:xfrm>
            <a:custGeom>
              <a:avLst/>
              <a:gdLst/>
              <a:ahLst/>
              <a:rect l="l" t="t" r="r" b="b"/>
              <a:pathLst>
                <a:path w="3393" h="1450">
                  <a:moveTo>
                    <a:pt x="2444" y="0"/>
                  </a:moveTo>
                  <a:lnTo>
                    <a:pt x="2472" y="1"/>
                  </a:lnTo>
                  <a:lnTo>
                    <a:pt x="2500" y="7"/>
                  </a:lnTo>
                  <a:lnTo>
                    <a:pt x="2526" y="19"/>
                  </a:lnTo>
                  <a:lnTo>
                    <a:pt x="2549" y="36"/>
                  </a:lnTo>
                  <a:lnTo>
                    <a:pt x="2569" y="56"/>
                  </a:lnTo>
                  <a:lnTo>
                    <a:pt x="2585" y="79"/>
                  </a:lnTo>
                  <a:lnTo>
                    <a:pt x="2596" y="105"/>
                  </a:lnTo>
                  <a:lnTo>
                    <a:pt x="2604" y="133"/>
                  </a:lnTo>
                  <a:lnTo>
                    <a:pt x="2604" y="162"/>
                  </a:lnTo>
                  <a:lnTo>
                    <a:pt x="2604" y="1128"/>
                  </a:lnTo>
                  <a:lnTo>
                    <a:pt x="3247" y="1128"/>
                  </a:lnTo>
                  <a:lnTo>
                    <a:pt x="3276" y="1134"/>
                  </a:lnTo>
                  <a:lnTo>
                    <a:pt x="3303" y="1144"/>
                  </a:lnTo>
                  <a:lnTo>
                    <a:pt x="3329" y="1159"/>
                  </a:lnTo>
                  <a:lnTo>
                    <a:pt x="3351" y="1179"/>
                  </a:lnTo>
                  <a:lnTo>
                    <a:pt x="3368" y="1202"/>
                  </a:lnTo>
                  <a:lnTo>
                    <a:pt x="3382" y="1228"/>
                  </a:lnTo>
                  <a:lnTo>
                    <a:pt x="3390" y="1257"/>
                  </a:lnTo>
                  <a:lnTo>
                    <a:pt x="3393" y="1286"/>
                  </a:lnTo>
                  <a:lnTo>
                    <a:pt x="3390" y="1314"/>
                  </a:lnTo>
                  <a:lnTo>
                    <a:pt x="3382" y="1343"/>
                  </a:lnTo>
                  <a:lnTo>
                    <a:pt x="3368" y="1369"/>
                  </a:lnTo>
                  <a:lnTo>
                    <a:pt x="3351" y="1392"/>
                  </a:lnTo>
                  <a:lnTo>
                    <a:pt x="3329" y="1412"/>
                  </a:lnTo>
                  <a:lnTo>
                    <a:pt x="3303" y="1428"/>
                  </a:lnTo>
                  <a:lnTo>
                    <a:pt x="3276" y="1438"/>
                  </a:lnTo>
                  <a:lnTo>
                    <a:pt x="3247" y="1443"/>
                  </a:lnTo>
                  <a:lnTo>
                    <a:pt x="2428" y="1443"/>
                  </a:lnTo>
                  <a:lnTo>
                    <a:pt x="2402" y="1441"/>
                  </a:lnTo>
                  <a:lnTo>
                    <a:pt x="2376" y="1434"/>
                  </a:lnTo>
                  <a:lnTo>
                    <a:pt x="2353" y="1423"/>
                  </a:lnTo>
                  <a:lnTo>
                    <a:pt x="2331" y="1407"/>
                  </a:lnTo>
                  <a:lnTo>
                    <a:pt x="2314" y="1388"/>
                  </a:lnTo>
                  <a:lnTo>
                    <a:pt x="2299" y="1366"/>
                  </a:lnTo>
                  <a:lnTo>
                    <a:pt x="2289" y="1342"/>
                  </a:lnTo>
                  <a:lnTo>
                    <a:pt x="2283" y="1316"/>
                  </a:lnTo>
                  <a:lnTo>
                    <a:pt x="2282" y="1290"/>
                  </a:lnTo>
                  <a:lnTo>
                    <a:pt x="2282" y="323"/>
                  </a:lnTo>
                  <a:lnTo>
                    <a:pt x="1678" y="323"/>
                  </a:lnTo>
                  <a:lnTo>
                    <a:pt x="1678" y="1288"/>
                  </a:lnTo>
                  <a:lnTo>
                    <a:pt x="1675" y="1317"/>
                  </a:lnTo>
                  <a:lnTo>
                    <a:pt x="1666" y="1346"/>
                  </a:lnTo>
                  <a:lnTo>
                    <a:pt x="1653" y="1372"/>
                  </a:lnTo>
                  <a:lnTo>
                    <a:pt x="1636" y="1395"/>
                  </a:lnTo>
                  <a:lnTo>
                    <a:pt x="1614" y="1415"/>
                  </a:lnTo>
                  <a:lnTo>
                    <a:pt x="1588" y="1430"/>
                  </a:lnTo>
                  <a:lnTo>
                    <a:pt x="1561" y="1441"/>
                  </a:lnTo>
                  <a:lnTo>
                    <a:pt x="1532" y="1447"/>
                  </a:lnTo>
                  <a:lnTo>
                    <a:pt x="1503" y="1447"/>
                  </a:lnTo>
                  <a:lnTo>
                    <a:pt x="1474" y="1441"/>
                  </a:lnTo>
                  <a:lnTo>
                    <a:pt x="1447" y="1431"/>
                  </a:lnTo>
                  <a:lnTo>
                    <a:pt x="1421" y="1415"/>
                  </a:lnTo>
                  <a:lnTo>
                    <a:pt x="1399" y="1397"/>
                  </a:lnTo>
                  <a:lnTo>
                    <a:pt x="1381" y="1374"/>
                  </a:lnTo>
                  <a:lnTo>
                    <a:pt x="1368" y="1348"/>
                  </a:lnTo>
                  <a:lnTo>
                    <a:pt x="1359" y="1319"/>
                  </a:lnTo>
                  <a:lnTo>
                    <a:pt x="1356" y="1290"/>
                  </a:lnTo>
                  <a:lnTo>
                    <a:pt x="1356" y="323"/>
                  </a:lnTo>
                  <a:lnTo>
                    <a:pt x="835" y="323"/>
                  </a:lnTo>
                  <a:lnTo>
                    <a:pt x="445" y="707"/>
                  </a:lnTo>
                  <a:lnTo>
                    <a:pt x="919" y="1174"/>
                  </a:lnTo>
                  <a:lnTo>
                    <a:pt x="938" y="1196"/>
                  </a:lnTo>
                  <a:lnTo>
                    <a:pt x="954" y="1222"/>
                  </a:lnTo>
                  <a:lnTo>
                    <a:pt x="964" y="1248"/>
                  </a:lnTo>
                  <a:lnTo>
                    <a:pt x="968" y="1277"/>
                  </a:lnTo>
                  <a:lnTo>
                    <a:pt x="968" y="1306"/>
                  </a:lnTo>
                  <a:lnTo>
                    <a:pt x="962" y="1335"/>
                  </a:lnTo>
                  <a:lnTo>
                    <a:pt x="952" y="1362"/>
                  </a:lnTo>
                  <a:lnTo>
                    <a:pt x="936" y="1387"/>
                  </a:lnTo>
                  <a:lnTo>
                    <a:pt x="918" y="1408"/>
                  </a:lnTo>
                  <a:lnTo>
                    <a:pt x="895" y="1425"/>
                  </a:lnTo>
                  <a:lnTo>
                    <a:pt x="869" y="1438"/>
                  </a:lnTo>
                  <a:lnTo>
                    <a:pt x="841" y="1447"/>
                  </a:lnTo>
                  <a:lnTo>
                    <a:pt x="812" y="1450"/>
                  </a:lnTo>
                  <a:lnTo>
                    <a:pt x="783" y="1449"/>
                  </a:lnTo>
                  <a:lnTo>
                    <a:pt x="755" y="1441"/>
                  </a:lnTo>
                  <a:lnTo>
                    <a:pt x="729" y="1428"/>
                  </a:lnTo>
                  <a:lnTo>
                    <a:pt x="706" y="1412"/>
                  </a:lnTo>
                  <a:lnTo>
                    <a:pt x="0" y="707"/>
                  </a:lnTo>
                  <a:lnTo>
                    <a:pt x="674" y="32"/>
                  </a:lnTo>
                  <a:lnTo>
                    <a:pt x="693" y="17"/>
                  </a:lnTo>
                  <a:lnTo>
                    <a:pt x="714" y="7"/>
                  </a:lnTo>
                  <a:lnTo>
                    <a:pt x="736" y="1"/>
                  </a:lnTo>
                  <a:lnTo>
                    <a:pt x="759" y="0"/>
                  </a:lnTo>
                  <a:lnTo>
                    <a:pt x="2444" y="0"/>
                  </a:lnTo>
                  <a:close/>
                </a:path>
              </a:pathLst>
            </a:custGeom>
            <a:solidFill>
              <a:srgbClr val="00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893720" y="95760"/>
              <a:ext cx="59040" cy="6264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0"/>
                  </a:moveTo>
                  <a:lnTo>
                    <a:pt x="1" y="159"/>
                  </a:lnTo>
                  <a:lnTo>
                    <a:pt x="10" y="128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0"/>
                  </a:lnTo>
                  <a:lnTo>
                    <a:pt x="85" y="30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0"/>
                  </a:lnTo>
                  <a:lnTo>
                    <a:pt x="319" y="50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8"/>
                  </a:lnTo>
                  <a:lnTo>
                    <a:pt x="378" y="159"/>
                  </a:lnTo>
                  <a:lnTo>
                    <a:pt x="381" y="190"/>
                  </a:lnTo>
                  <a:lnTo>
                    <a:pt x="378" y="222"/>
                  </a:lnTo>
                  <a:lnTo>
                    <a:pt x="371" y="252"/>
                  </a:lnTo>
                  <a:lnTo>
                    <a:pt x="358" y="281"/>
                  </a:lnTo>
                  <a:lnTo>
                    <a:pt x="340" y="307"/>
                  </a:lnTo>
                  <a:lnTo>
                    <a:pt x="319" y="330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5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5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0"/>
                  </a:lnTo>
                  <a:lnTo>
                    <a:pt x="39" y="307"/>
                  </a:lnTo>
                  <a:lnTo>
                    <a:pt x="22" y="281"/>
                  </a:lnTo>
                  <a:lnTo>
                    <a:pt x="10" y="252"/>
                  </a:lnTo>
                  <a:lnTo>
                    <a:pt x="1" y="22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93720" y="189720"/>
              <a:ext cx="59040" cy="63000"/>
            </a:xfrm>
            <a:custGeom>
              <a:avLst/>
              <a:gdLst/>
              <a:ahLst/>
              <a:rect l="l" t="t" r="r" b="b"/>
              <a:pathLst>
                <a:path w="381" h="381">
                  <a:moveTo>
                    <a:pt x="0" y="191"/>
                  </a:moveTo>
                  <a:lnTo>
                    <a:pt x="1" y="159"/>
                  </a:lnTo>
                  <a:lnTo>
                    <a:pt x="10" y="129"/>
                  </a:lnTo>
                  <a:lnTo>
                    <a:pt x="22" y="100"/>
                  </a:lnTo>
                  <a:lnTo>
                    <a:pt x="39" y="74"/>
                  </a:lnTo>
                  <a:lnTo>
                    <a:pt x="61" y="51"/>
                  </a:lnTo>
                  <a:lnTo>
                    <a:pt x="85" y="32"/>
                  </a:lnTo>
                  <a:lnTo>
                    <a:pt x="114" y="16"/>
                  </a:lnTo>
                  <a:lnTo>
                    <a:pt x="143" y="6"/>
                  </a:lnTo>
                  <a:lnTo>
                    <a:pt x="175" y="0"/>
                  </a:lnTo>
                  <a:lnTo>
                    <a:pt x="206" y="0"/>
                  </a:lnTo>
                  <a:lnTo>
                    <a:pt x="237" y="6"/>
                  </a:lnTo>
                  <a:lnTo>
                    <a:pt x="267" y="16"/>
                  </a:lnTo>
                  <a:lnTo>
                    <a:pt x="294" y="32"/>
                  </a:lnTo>
                  <a:lnTo>
                    <a:pt x="319" y="51"/>
                  </a:lnTo>
                  <a:lnTo>
                    <a:pt x="340" y="74"/>
                  </a:lnTo>
                  <a:lnTo>
                    <a:pt x="358" y="100"/>
                  </a:lnTo>
                  <a:lnTo>
                    <a:pt x="371" y="129"/>
                  </a:lnTo>
                  <a:lnTo>
                    <a:pt x="378" y="159"/>
                  </a:lnTo>
                  <a:lnTo>
                    <a:pt x="381" y="191"/>
                  </a:lnTo>
                  <a:lnTo>
                    <a:pt x="378" y="223"/>
                  </a:lnTo>
                  <a:lnTo>
                    <a:pt x="371" y="253"/>
                  </a:lnTo>
                  <a:lnTo>
                    <a:pt x="358" y="282"/>
                  </a:lnTo>
                  <a:lnTo>
                    <a:pt x="340" y="308"/>
                  </a:lnTo>
                  <a:lnTo>
                    <a:pt x="319" y="332"/>
                  </a:lnTo>
                  <a:lnTo>
                    <a:pt x="294" y="351"/>
                  </a:lnTo>
                  <a:lnTo>
                    <a:pt x="267" y="365"/>
                  </a:lnTo>
                  <a:lnTo>
                    <a:pt x="237" y="376"/>
                  </a:lnTo>
                  <a:lnTo>
                    <a:pt x="206" y="381"/>
                  </a:lnTo>
                  <a:lnTo>
                    <a:pt x="175" y="381"/>
                  </a:lnTo>
                  <a:lnTo>
                    <a:pt x="143" y="376"/>
                  </a:lnTo>
                  <a:lnTo>
                    <a:pt x="114" y="365"/>
                  </a:lnTo>
                  <a:lnTo>
                    <a:pt x="85" y="351"/>
                  </a:lnTo>
                  <a:lnTo>
                    <a:pt x="61" y="332"/>
                  </a:lnTo>
                  <a:lnTo>
                    <a:pt x="39" y="308"/>
                  </a:lnTo>
                  <a:lnTo>
                    <a:pt x="22" y="282"/>
                  </a:lnTo>
                  <a:lnTo>
                    <a:pt x="10" y="253"/>
                  </a:lnTo>
                  <a:lnTo>
                    <a:pt x="1" y="223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74040" y="158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91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0"/>
                  </a:lnTo>
                  <a:lnTo>
                    <a:pt x="114" y="15"/>
                  </a:lnTo>
                  <a:lnTo>
                    <a:pt x="145" y="4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4"/>
                  </a:lnTo>
                  <a:lnTo>
                    <a:pt x="269" y="15"/>
                  </a:lnTo>
                  <a:lnTo>
                    <a:pt x="296" y="30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91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7"/>
                  </a:lnTo>
                  <a:lnTo>
                    <a:pt x="321" y="330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0"/>
                  </a:lnTo>
                  <a:lnTo>
                    <a:pt x="41" y="307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74040" y="109440"/>
              <a:ext cx="59400" cy="62640"/>
            </a:xfrm>
            <a:custGeom>
              <a:avLst/>
              <a:gdLst/>
              <a:ahLst/>
              <a:rect l="l" t="t" r="r" b="b"/>
              <a:pathLst>
                <a:path w="383" h="380">
                  <a:moveTo>
                    <a:pt x="0" y="189"/>
                  </a:moveTo>
                  <a:lnTo>
                    <a:pt x="3" y="159"/>
                  </a:lnTo>
                  <a:lnTo>
                    <a:pt x="10" y="129"/>
                  </a:lnTo>
                  <a:lnTo>
                    <a:pt x="23" y="100"/>
                  </a:lnTo>
                  <a:lnTo>
                    <a:pt x="41" y="72"/>
                  </a:lnTo>
                  <a:lnTo>
                    <a:pt x="62" y="49"/>
                  </a:lnTo>
                  <a:lnTo>
                    <a:pt x="87" y="31"/>
                  </a:lnTo>
                  <a:lnTo>
                    <a:pt x="114" y="15"/>
                  </a:lnTo>
                  <a:lnTo>
                    <a:pt x="145" y="5"/>
                  </a:lnTo>
                  <a:lnTo>
                    <a:pt x="175" y="0"/>
                  </a:lnTo>
                  <a:lnTo>
                    <a:pt x="207" y="0"/>
                  </a:lnTo>
                  <a:lnTo>
                    <a:pt x="238" y="5"/>
                  </a:lnTo>
                  <a:lnTo>
                    <a:pt x="269" y="15"/>
                  </a:lnTo>
                  <a:lnTo>
                    <a:pt x="296" y="31"/>
                  </a:lnTo>
                  <a:lnTo>
                    <a:pt x="321" y="49"/>
                  </a:lnTo>
                  <a:lnTo>
                    <a:pt x="342" y="72"/>
                  </a:lnTo>
                  <a:lnTo>
                    <a:pt x="359" y="100"/>
                  </a:lnTo>
                  <a:lnTo>
                    <a:pt x="372" y="129"/>
                  </a:lnTo>
                  <a:lnTo>
                    <a:pt x="380" y="159"/>
                  </a:lnTo>
                  <a:lnTo>
                    <a:pt x="383" y="189"/>
                  </a:lnTo>
                  <a:lnTo>
                    <a:pt x="380" y="221"/>
                  </a:lnTo>
                  <a:lnTo>
                    <a:pt x="372" y="251"/>
                  </a:lnTo>
                  <a:lnTo>
                    <a:pt x="359" y="280"/>
                  </a:lnTo>
                  <a:lnTo>
                    <a:pt x="342" y="308"/>
                  </a:lnTo>
                  <a:lnTo>
                    <a:pt x="321" y="331"/>
                  </a:lnTo>
                  <a:lnTo>
                    <a:pt x="296" y="349"/>
                  </a:lnTo>
                  <a:lnTo>
                    <a:pt x="269" y="365"/>
                  </a:lnTo>
                  <a:lnTo>
                    <a:pt x="238" y="375"/>
                  </a:lnTo>
                  <a:lnTo>
                    <a:pt x="207" y="380"/>
                  </a:lnTo>
                  <a:lnTo>
                    <a:pt x="175" y="380"/>
                  </a:lnTo>
                  <a:lnTo>
                    <a:pt x="145" y="375"/>
                  </a:lnTo>
                  <a:lnTo>
                    <a:pt x="114" y="365"/>
                  </a:lnTo>
                  <a:lnTo>
                    <a:pt x="87" y="349"/>
                  </a:lnTo>
                  <a:lnTo>
                    <a:pt x="62" y="331"/>
                  </a:lnTo>
                  <a:lnTo>
                    <a:pt x="41" y="308"/>
                  </a:lnTo>
                  <a:lnTo>
                    <a:pt x="23" y="280"/>
                  </a:lnTo>
                  <a:lnTo>
                    <a:pt x="10" y="251"/>
                  </a:lnTo>
                  <a:lnTo>
                    <a:pt x="3" y="221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1eff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 rot="16200000">
            <a:off x="-276480" y="6294960"/>
            <a:ext cx="8283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936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2784ff"/>
                </a:solidFill>
                <a:latin typeface="Arial Narrow"/>
              </a:rPr>
              <a:t>www.ktl.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680" y="3471840"/>
            <a:ext cx="211320" cy="2342880"/>
            <a:chOff x="4680" y="3471840"/>
            <a:chExt cx="211320" cy="2342880"/>
          </a:xfrm>
        </p:grpSpPr>
        <p:sp>
          <p:nvSpPr>
            <p:cNvPr id="16" name=""/>
            <p:cNvSpPr/>
            <p:nvPr/>
          </p:nvSpPr>
          <p:spPr>
            <a:xfrm>
              <a:off x="18000" y="5260320"/>
              <a:ext cx="185760" cy="1969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7440" y="4956840"/>
              <a:ext cx="145800" cy="15516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680" y="4696200"/>
              <a:ext cx="122760" cy="13032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8320" y="4448880"/>
              <a:ext cx="105840" cy="113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760" y="4227480"/>
              <a:ext cx="84600" cy="900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480" y="4037400"/>
              <a:ext cx="64080" cy="6840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760" y="3865320"/>
              <a:ext cx="46800" cy="50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0720" y="3716640"/>
              <a:ext cx="38520" cy="410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7200" y="3584520"/>
              <a:ext cx="25920" cy="2808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0080" y="3471840"/>
              <a:ext cx="19800" cy="212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680" y="5590080"/>
              <a:ext cx="211320" cy="224640"/>
            </a:xfrm>
            <a:prstGeom prst="ellipse">
              <a:avLst/>
            </a:prstGeom>
            <a:solidFill>
              <a:srgbClr val="27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Metallialtistumisen terveysriskit Harjavallassa</a:t>
            </a:r>
            <a:br>
              <a:rPr sz="4000"/>
            </a:b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- Finmerac-projektin tuloksi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Virpi Kollanus, Jouni Tuomist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1.10.2008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7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ltistuksen arviointi – tulokse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625680" y="1557360"/>
            <a:ext cx="67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skimääräinen päivittäinen metallisaanti (mg/kg/d), alu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26920" y="2276640"/>
          <a:ext cx="7488360" cy="4314600"/>
        </p:xfrm>
        <a:graphic>
          <a:graphicData uri="http://schemas.openxmlformats.org/drawingml/2006/table">
            <a:tbl>
              <a:tblPr/>
              <a:tblGrid>
                <a:gridCol w="863640"/>
                <a:gridCol w="1368720"/>
                <a:gridCol w="649080"/>
                <a:gridCol w="646200"/>
                <a:gridCol w="649080"/>
                <a:gridCol w="648000"/>
                <a:gridCol w="720720"/>
                <a:gridCol w="647640"/>
                <a:gridCol w="647640"/>
                <a:gridCol w="647640"/>
              </a:tblGrid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ku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hteensä (paikallis-lähte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ngit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lko- ja sisäil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-kan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oma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aper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nta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aper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ous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nta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hteensä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ikallinen + tau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E-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E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aikall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äätelmä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gitystiealtistus metalleil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iden kuin syöpäriskien ilmeneminen epätodennäköist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öpäriskit mahdollisia mutta pieniä. Mikä on hyväksyttävä taso?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tallien saanti – muut kuin syöpä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uparin ja kadmiumin vaikutukset epätodennäköisi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ikkelialtistus voi aiheuttaa oireita herkistyneill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seenialtistus saattaa olla lähellä virallista turvallisen saannin raja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istusarvio kuitenkin hyvin epävarm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tistus peräisin juomavedestä ja ruuast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tallien saanti – syöpä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seenin osalta riskit ylittävät tavanomaisen hyväksyttävän rajan, mutta arviointi on hyvin epävarma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rkempaa tietoa tarvitaan ennen toimenpiteitä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492120"/>
            <a:ext cx="8480520" cy="91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Avoin arviointi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1840" y="1403280"/>
            <a:ext cx="8518680" cy="5237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rmAutofit/>
          </a:bodyPr>
          <a:p>
            <a:pPr marL="493560" indent="-4935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voite: Löytää ratkaisut kaikkiin nykyisiin riskinarvioinnin haasteisiin samanaikaisesti. Erityisesti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allia täysin avoin osallistumine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äilyttää korkea tieteellinen laat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ollistaa” riskinarviointi: johdonmukaistaa ja tehosta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-4935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ykytilanne: avoimessa arvioinnissa on ehdotukset ratkaisuiksi kaikkiin esiteltyihin haasteisi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nia ehdotuksia ei ole vielä testattu käytännössä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79480" indent="-39852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uultavasti kaikki ratkaisut eivät toim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Kuitenkin on olemassa kriittinen massa ratkaisuja tarjolla, jotta täysimittainen kokeilu voidaan aloitta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935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585720"/>
                <a:tab algn="l" pos="1035000"/>
                <a:tab algn="l" pos="1484280"/>
                <a:tab algn="l" pos="1933560"/>
                <a:tab algn="l" pos="2382840"/>
                <a:tab algn="l" pos="2832120"/>
                <a:tab algn="l" pos="3281400"/>
                <a:tab algn="l" pos="3730680"/>
                <a:tab algn="l" pos="4179960"/>
                <a:tab algn="l" pos="4629240"/>
                <a:tab algn="l" pos="5078520"/>
                <a:tab algn="l" pos="5527800"/>
                <a:tab algn="l" pos="5977080"/>
                <a:tab algn="l" pos="6426360"/>
                <a:tab algn="l" pos="6875640"/>
                <a:tab algn="l" pos="7324560"/>
                <a:tab algn="l" pos="7773840"/>
                <a:tab algn="l" pos="8223120"/>
                <a:tab algn="l" pos="8672400"/>
                <a:tab algn="l" pos="9121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siin nousevat ongelmat ratkotaan matkan varrell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387000"/>
            <a:ext cx="845820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Arvioinnit tehdään avoimesti internetissä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arviointimenetelmistä ja niiden soveltamisesta arvioijil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hyödyllisestä data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toteutettavista ja valmiista arvioinneist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rviointien ja mallien kuvauks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Varsinaiset laskentamall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lokset yhdenmukaisessa muodossa jatkokäyttöä vart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sto osallistumiselle ja kommentoinnil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aikki tämä avoimesti päivitettäviss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360" y="179280"/>
            <a:ext cx="831384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Arviointi: kaasubuss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533520"/>
            <a:ext cx="847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Laadunvarmistu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ivuja saa vapaasti lisätä, mutta pitkälle kehittyneet sivut suojataan suoralta muokkaamiselt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aikkia sivuja saa kuitenkin kommentoida keskustelusivulla, ja keskustelussa kestäviksi todetut ajatukset siirretään varsinaiselle sivull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rittäin tärkeät sivut ohjataan vertaisarviointiin ja varustetaan laatuluokituksell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0360" y="533520"/>
            <a:ext cx="847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Yhteenvet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544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voimen arvioinnin tarkoituksena on parantaa ja tehostaa tieteellisen tiedon hyödyntämistä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skeiset periaatteet ov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voin osallistuminen kaikissa vaiheiss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eteellisyyden vaatimus joka kohdass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77960" indent="-2970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iedon uudelleenkäytettävyys arvioinnista toise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Finmerac proje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Aims and produ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Health risk assessment in Harjaval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avalta case stu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assess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isk characteris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Arsenic intake – cancer risk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ral Slope Factor — 1.5 per mg/kg/day (U.S. EPA 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Risk estimates in Harjavalta range fr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Adul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5 fractile: 2.4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95 fractile: 4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5 fractile: 3.1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0.95 fractile: 5.1E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ajority of the exposure comes from from diet (background) and municipal drinking wa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xposure calculation includes a lot of uncertain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ffect of industry on exposure is limited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oxic mechanism of As is under deb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Suitability of a linear dose response model question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Harjavalta case stud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aval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mall industrial town in south-west Finl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opulation ca. 8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etal refining and related industry since 194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Cu and Ni refin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Sulfuric acid produ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Fertilizer indust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ealth effects of air particles containing meta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patial epidemiological stu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tegrated health and ecological risk assessment (current risk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avoitteena kehittää metallien integroitu riskinarviointimenettely (terveys ja ekologia yhdessä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hoitus: TEKES ja Teknologiateollisuu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tkimusyhteistyö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ologian tutkimuskeskus (GTK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ansanterveyslaitos (KT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uopion yliopis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omen ympäristökeskus (SYK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tkimuksen kesto: 2006 - 200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Exposure assessmen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Average daily intake of Cu, Ni, As, and Cd due to environmental and background exposu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dul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hild (3 v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Assessment was based on environmental data collected in previous studies from Harjavalta are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Probabilistic exposure modell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arameters defined with distrib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754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Exposure assessmen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2200" y="1052280"/>
            <a:ext cx="8514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scenario: residential area with gard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routes: inhalation, gastrointestinal tract, sk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pathways included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halation of outdoor &amp; indoor 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rinking water (municipal and well wate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onsumption of local food crops (leafy vegetables, tuberous vegetables, berri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gestion of so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gestion of surface water (swimmin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ermal exposure to so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ermal exposure to household water (showerin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ermal exposure to surface water (swimmin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Background exposure (die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758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Uncertainties in exposure assessment dat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2200" y="980640"/>
            <a:ext cx="851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utdoor a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Only one measuring point near the industrial are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No data for indoor ai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Food c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tal concentrations in leafy and tuberous vegetables from 1980’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tal concentrations in berries from 1994-2006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Very limited data for metal concentrations in residential area soi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Forest humus concentrations used for Cu, Ni, and C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easurements from industrial area used for 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Drinking water (municipa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Ni, As and Cd concentrations under the detection lim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alf of the DL us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 Narrow"/>
              </a:rPr>
              <a:t>Conclusion: Exposure is more likely to be over than underestim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Risk characteris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2200" y="1557000"/>
            <a:ext cx="851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Health risks from exposure to individual meta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Exposure rou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Inhalation expos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otal intake (GI-tract, inhalation, absorption via ski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Health effect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Non-cancer eff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Cancer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halation exposure → Ni, As,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Oral exposure → 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492120"/>
            <a:ext cx="8475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Methods of risk characteris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2200" y="1341000"/>
            <a:ext cx="85140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 Narrow"/>
              </a:rPr>
              <a:t>Non-cancer health eff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zard quotient (HQ) → Exposure / Safe exposur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Q≤1 → No risk of adverse eff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HQ&gt;1 → There is a risk of adverse eff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Margin of safety (MOS) → NOAEC or NOAEL / Expos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cceptable safety margin defined on a case-by-case –ba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000000"/>
                </a:solidFill>
                <a:uFillTx/>
                <a:latin typeface="Arial Narrow"/>
              </a:rPr>
              <a:t>Cancer ri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Lifetime cancer risk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xposure level * Cancer unit risk (slope facto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Exposure via inhal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2349360"/>
          <a:ext cx="4178520" cy="1638360"/>
        </p:xfrm>
        <a:graphic>
          <a:graphicData uri="http://schemas.openxmlformats.org/drawingml/2006/table">
            <a:tbl>
              <a:tblPr/>
              <a:tblGrid>
                <a:gridCol w="506520"/>
                <a:gridCol w="1127160"/>
                <a:gridCol w="708120"/>
                <a:gridCol w="1093680"/>
                <a:gridCol w="743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975120" y="4143240"/>
            <a:ext cx="44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4724280"/>
          <a:ext cx="7350120" cy="1092240"/>
        </p:xfrm>
        <a:graphic>
          <a:graphicData uri="http://schemas.openxmlformats.org/drawingml/2006/table">
            <a:tbl>
              <a:tblPr/>
              <a:tblGrid>
                <a:gridCol w="2293920"/>
                <a:gridCol w="804960"/>
                <a:gridCol w="809640"/>
                <a:gridCol w="807840"/>
                <a:gridCol w="911520"/>
                <a:gridCol w="914400"/>
                <a:gridCol w="807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time cancer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E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2E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E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ed cancer inci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0920" y="42210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 Narrow"/>
              </a:rPr>
              <a:t>Risk of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6960" y="1773360"/>
            <a:ext cx="34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 Narrow"/>
              </a:rPr>
              <a:t>Risk of non-cancer health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19840" y="2127240"/>
            <a:ext cx="275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421000"/>
            <a:ext cx="42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Q≤1 → No risk of advers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HQ&gt;1 → There is a risk of advers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MOS = Safety margin to NOAEC or LOA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00" y="6093000"/>
            <a:ext cx="34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Acceptable cancer risk 1E-4 – 1E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75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Total metal intake: risk of non-cancer health effects</a:t>
            </a:r>
            <a:r>
              <a:rPr b="0" lang="fi-FI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2200" y="2708280"/>
          <a:ext cx="4179960" cy="3927600"/>
        </p:xfrm>
        <a:graphic>
          <a:graphicData uri="http://schemas.openxmlformats.org/drawingml/2006/table">
            <a:tbl>
              <a:tblPr/>
              <a:tblGrid>
                <a:gridCol w="1596960"/>
                <a:gridCol w="646200"/>
                <a:gridCol w="646200"/>
                <a:gridCol w="644400"/>
                <a:gridCol w="646200"/>
              </a:tblGrid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d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716360" y="1773360"/>
          <a:ext cx="4181400" cy="4914720"/>
        </p:xfrm>
        <a:graphic>
          <a:graphicData uri="http://schemas.openxmlformats.org/drawingml/2006/table">
            <a:tbl>
              <a:tblPr/>
              <a:tblGrid>
                <a:gridCol w="1598760"/>
                <a:gridCol w="646200"/>
                <a:gridCol w="644400"/>
                <a:gridCol w="646200"/>
                <a:gridCol w="645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d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ctil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ensit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+Backgrou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07160" y="1052640"/>
            <a:ext cx="39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 Narrow"/>
              </a:rPr>
              <a:t>Hazard quotient (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HQ≤1 → No risk of advers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HQ&gt;1 → There is a risk of advers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1052640"/>
            <a:ext cx="338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 Narrow"/>
              </a:rPr>
              <a:t>Margin of safety (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MOS = Safety margin to NO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45000"/>
                <a:tab algn="l" pos="909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 – päätavoitte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2200" y="1773000"/>
            <a:ext cx="851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rätä tieteellistä tietoa ja asiantuntemusta metallien riskinarvioinni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hittää menetelmiä metallien terveys- ja ekologisten riskien arviointii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 - tulo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1840" y="1402920"/>
            <a:ext cx="41799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lli integroituun tapauskohtaiseen riskinarviointiin: metallien terveys- ja ekologiset risk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voimen arvioinnin menetelmä. Periaattee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muus ja läpinäkyvyy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oin osallistumin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yön pilkkominen täsmällisesti määritellyiksi paloiksi (modulaarisuu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eteellisyyden vaatimus joka palalle erikse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8084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Finmerac - tulokse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Kolme tapaustutkimus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Harjavalta (Cu-Ni-sulatto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erveys- ja ekologiset 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Integroitu mall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Kokkola (Zn-Co-sulatto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ohjaveden saastumisrisk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Ekologiset risk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Pyhäsalmi (Zn-Cu-S-kaivo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Metallien kulkeutuminen ja biosaatavuus järvissä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 Narrow"/>
              </a:rPr>
              <a:t>Harjavalt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2359080" cy="432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981080" y="1904760"/>
            <a:ext cx="5943600" cy="4362840"/>
            <a:chOff x="1981080" y="1904760"/>
            <a:chExt cx="5943600" cy="43628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5116680" y="1905120"/>
              <a:ext cx="2808000" cy="4362480"/>
            </a:xfrm>
            <a:prstGeom prst="rect">
              <a:avLst/>
            </a:prstGeom>
            <a:ln w="19080">
              <a:solidFill>
                <a:srgbClr val="bbe0e3"/>
              </a:solidFill>
              <a:miter/>
            </a:ln>
          </p:spPr>
        </p:pic>
        <p:sp>
          <p:nvSpPr>
            <p:cNvPr id="85" name=""/>
            <p:cNvSpPr/>
            <p:nvPr/>
          </p:nvSpPr>
          <p:spPr>
            <a:xfrm>
              <a:off x="1981080" y="4343400"/>
              <a:ext cx="1067040" cy="1905120"/>
            </a:xfrm>
            <a:prstGeom prst="rect">
              <a:avLst/>
            </a:prstGeom>
            <a:noFill/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981080" y="1904760"/>
              <a:ext cx="3124440" cy="243828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6248520"/>
              <a:ext cx="3124440" cy="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057400" y="1371600"/>
            <a:ext cx="262080" cy="412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1360440"/>
            <a:ext cx="3690720" cy="335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48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491760"/>
            <a:ext cx="84758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arjavallan terveysriskinarvioin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2200" y="1402920"/>
            <a:ext cx="851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Aiheuttavatko metallien nykypitoisuudet terveyshaittaa Harjavallassa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yöterveysriskit tarkastelun ulkopuolell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Metallit: kupari (Cu), nikkeli (Ni), arseeni (As), kadmium (C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Riskinarvioinnin työvaihe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Altistumisen arviointi mallittamalla ja perustuen mitattuihin pitoisuuksi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Vaaran tunnistus ja annosvasteiden arviointi: tieteellinen kirjallisuu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Riskin luonnehdinta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vaaraosamäärä (HQ)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turvamarginaali (MOS),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elinikäinen syöpärisk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758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ltistusvyöhykkee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93960" y="981000"/>
            <a:ext cx="5486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0:11:25Z</dcterms:created>
  <dc:creator>ctep</dc:creator>
  <dc:description/>
  <dc:language>en-US</dc:language>
  <cp:lastModifiedBy>Jouni Tuomisto</cp:lastModifiedBy>
  <dcterms:modified xsi:type="dcterms:W3CDTF">2008-10-01T08:47:25Z</dcterms:modified>
  <cp:revision>88</cp:revision>
  <dc:subject/>
  <dc:title>Health risks of metal exposure in Harjavalta - Results of Finmerac project</dc:title>
</cp:coreProperties>
</file>